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E64-D516-4E29-BDBA-6962DE3E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76A-BAF2-4A18-8436-2B7554D0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9454-A266-4D5E-A0F1-B6DA856B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98E8-3B1E-47F1-9C1F-E12191D2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0F64-FD86-4BE2-94CA-9B9F8AD6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6CB-0668-486C-BCB9-0845B985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4FA-867D-45A2-B071-16CC6CF9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7BE1-5003-4ED8-B25C-96DF5BD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999-D942-4147-85E5-92D1018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7C5A-1337-4AC3-98C8-875D1BF2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9FF-AAA4-4B68-9B7A-E333A19E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CC9-2973-4F39-A3CE-9EAD14F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85E-6925-4168-BA9E-C215CAB40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3"/>
          <p:cNvSpPr/>
          <p:nvPr/>
        </p:nvSpPr>
        <p:spPr>
          <a:xfrm>
            <a:off x="5867280" y="41911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4"/>
          <p:cNvSpPr/>
          <p:nvPr/>
        </p:nvSpPr>
        <p:spPr>
          <a:xfrm>
            <a:off x="236232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444960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55520" y="842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6" descr=""/>
          <p:cNvPicPr/>
          <p:nvPr/>
        </p:nvPicPr>
        <p:blipFill>
          <a:blip r:embed="rId1"/>
          <a:stretch/>
        </p:blipFill>
        <p:spPr>
          <a:xfrm>
            <a:off x="307800" y="344520"/>
            <a:ext cx="845532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3"/>
          <p:cNvSpPr/>
          <p:nvPr/>
        </p:nvSpPr>
        <p:spPr>
          <a:xfrm>
            <a:off x="5867280" y="4524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n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2362320" y="460044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5867280" y="3228840"/>
            <a:ext cx="2210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 Vater ist links neben MEINEM Va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914400" y="284796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 Bruder ist über MEINEM Op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4120" y="117144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e Mutter ist über MI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657600" y="559116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 Onkel ist links neben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INER Om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1"/>
          <a:stretch/>
        </p:blipFill>
        <p:spPr>
          <a:xfrm>
            <a:off x="28440" y="0"/>
            <a:ext cx="8991720" cy="681192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4" descr=""/>
          <p:cNvPicPr/>
          <p:nvPr/>
        </p:nvPicPr>
        <p:blipFill>
          <a:blip r:embed="rId2"/>
          <a:stretch/>
        </p:blipFill>
        <p:spPr>
          <a:xfrm>
            <a:off x="7699320" y="2932200"/>
            <a:ext cx="1438200" cy="156060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5" descr=""/>
          <p:cNvPicPr/>
          <p:nvPr/>
        </p:nvPicPr>
        <p:blipFill>
          <a:blip r:embed="rId3"/>
          <a:stretch/>
        </p:blipFill>
        <p:spPr>
          <a:xfrm>
            <a:off x="-225360" y="2932200"/>
            <a:ext cx="132228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17:03:56Z</dcterms:created>
  <dc:creator>tmsadmin</dc:creator>
  <dc:description/>
  <dc:language>en-US</dc:language>
  <cp:lastModifiedBy>Alissa Hart</cp:lastModifiedBy>
  <dcterms:modified xsi:type="dcterms:W3CDTF">2015-03-25T19:23:30Z</dcterms:modified>
  <cp:revision>17</cp:revision>
  <dc:subject/>
  <dc:title>Slide 1</dc:title>
</cp:coreProperties>
</file>